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9179-B4E1-4E6A-B347-B1900A2F9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829E-B201-4127-9806-DBDCEBCD2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C8B9-39D1-48EF-972E-73EA74B8E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DE8D-69FB-4830-A1A0-E7D43C2AE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F9BD-11B8-4F53-AF46-FD0F4BEFD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888B-3212-460D-9BB4-BB71E72C7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7825-F84E-4ACF-BEC7-6FF3FA66A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1808-9F31-4B21-9B64-430970212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C51B-E44F-4C12-836E-65A8B50CD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CD53-0ECC-4E43-A824-B6F908B3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4489-946B-4DD4-B7D7-4F9A7760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D5D5-8B4B-4FF9-8787-87FF63F9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00FC3-02B0-475C-A976-1C936E480213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600" spc="-1" strike="noStrike">
                <a:solidFill>
                  <a:srgbClr val="ffffff"/>
                </a:solidFill>
                <a:latin typeface="Arial"/>
              </a:rPr>
              <a:t>Crop Circl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issbury Rings, England, 1995"/>
          <p:cNvPicPr/>
          <p:nvPr/>
        </p:nvPicPr>
        <p:blipFill>
          <a:blip r:embed="rId1"/>
          <a:stretch/>
        </p:blipFill>
        <p:spPr>
          <a:xfrm>
            <a:off x="250920" y="133200"/>
            <a:ext cx="8713800" cy="65376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Galaxy Formation, New Alresford, England, 1995"/>
          <p:cNvPicPr/>
          <p:nvPr/>
        </p:nvPicPr>
        <p:blipFill>
          <a:blip r:embed="rId1"/>
          <a:stretch/>
        </p:blipFill>
        <p:spPr>
          <a:xfrm>
            <a:off x="395280" y="458640"/>
            <a:ext cx="8137440" cy="6102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Sisters of the Pleiades, Froxfield, England, 1994"/>
          <p:cNvPicPr/>
          <p:nvPr/>
        </p:nvPicPr>
        <p:blipFill>
          <a:blip r:embed="rId1"/>
          <a:stretch/>
        </p:blipFill>
        <p:spPr>
          <a:xfrm>
            <a:off x="250920" y="133200"/>
            <a:ext cx="8713800" cy="65376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Liddington Castle, near Swindon, England, 1997"/>
          <p:cNvPicPr/>
          <p:nvPr/>
        </p:nvPicPr>
        <p:blipFill>
          <a:blip r:embed="rId1"/>
          <a:stretch/>
        </p:blipFill>
        <p:spPr>
          <a:xfrm>
            <a:off x="250920" y="133200"/>
            <a:ext cx="8713800" cy="65376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Spinning Star, Wiltshire, England"/>
          <p:cNvPicPr/>
          <p:nvPr/>
        </p:nvPicPr>
        <p:blipFill>
          <a:blip r:embed="rId1"/>
          <a:stretch/>
        </p:blipFill>
        <p:spPr>
          <a:xfrm>
            <a:off x="250920" y="189000"/>
            <a:ext cx="8640720" cy="64818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The Crescent Star, Silbury Hill, England, 1999"/>
          <p:cNvPicPr/>
          <p:nvPr/>
        </p:nvPicPr>
        <p:blipFill>
          <a:blip r:embed="rId1"/>
          <a:stretch/>
        </p:blipFill>
        <p:spPr>
          <a:xfrm>
            <a:off x="250920" y="187200"/>
            <a:ext cx="8642160" cy="64836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Winterbourne Stoke, England, 1995"/>
          <p:cNvPicPr/>
          <p:nvPr/>
        </p:nvPicPr>
        <p:blipFill>
          <a:blip r:embed="rId1"/>
          <a:stretch/>
        </p:blipFill>
        <p:spPr>
          <a:xfrm>
            <a:off x="250920" y="133200"/>
            <a:ext cx="8713800" cy="65376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Seventeen Moons, Wiltshire, England"/>
          <p:cNvPicPr/>
          <p:nvPr/>
        </p:nvPicPr>
        <p:blipFill>
          <a:blip r:embed="rId1"/>
          <a:stretch/>
        </p:blipFill>
        <p:spPr>
          <a:xfrm>
            <a:off x="179280" y="135000"/>
            <a:ext cx="8785440" cy="658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Koch Snowflake, Silbury Hill, England, 1997"/>
          <p:cNvPicPr/>
          <p:nvPr/>
        </p:nvPicPr>
        <p:blipFill>
          <a:blip r:embed="rId1"/>
          <a:stretch/>
        </p:blipFill>
        <p:spPr>
          <a:xfrm>
            <a:off x="250920" y="133200"/>
            <a:ext cx="8713800" cy="65376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rescent Moons, Wiltshire, England"/>
          <p:cNvPicPr/>
          <p:nvPr/>
        </p:nvPicPr>
        <p:blipFill>
          <a:blip r:embed="rId1"/>
          <a:stretch/>
        </p:blipFill>
        <p:spPr>
          <a:xfrm>
            <a:off x="179280" y="135000"/>
            <a:ext cx="8785440" cy="658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23:46:05Z</dcterms:created>
  <dc:creator>DE&amp;T User</dc:creator>
  <dc:description/>
  <dc:language>en-US</dc:language>
  <cp:lastModifiedBy>Image</cp:lastModifiedBy>
  <dcterms:modified xsi:type="dcterms:W3CDTF">2011-11-02T05:47:51Z</dcterms:modified>
  <cp:revision>2</cp:revision>
  <dc:subject/>
  <dc:title>Slide 1</dc:title>
</cp:coreProperties>
</file>